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584-A9DE-4CF3-9714-15D9650D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4634-4224-4FF6-8D6E-1C4561B6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725-10AF-4303-9CE7-46F99B95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A57-EDDE-421A-9230-D28FEA42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2CF3-F7A6-4159-A9A1-E896E4D7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9019-BFFC-42D9-B671-084EA7C2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C1B4-FE4F-46D1-8BE3-3BAB8B42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04E1-45B8-42C7-AE79-4DACE0CB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2316-5CD7-4C6A-84BD-E3E887FD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2057-8F67-43B1-B1B9-07BD89CB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8B51-18BD-4609-9F55-ED9AB2AE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0AA-C7D3-414C-8154-33C38993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90D0-B4C2-477B-BFB2-503F8988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1DBA-4E0F-43F4-B64A-F959292C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E5CA-B292-4CB1-A9AA-AB739CD7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714A-3DD6-490A-ADAE-BE951BAD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E44D-9AB3-48A9-87F1-7D5A0998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9EE-48E9-4DB0-823B-778B0B6D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079-37C1-4C24-B597-CA2BAF77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563-E03D-4A77-AF7C-F18A6E51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F91-E038-49A5-906A-084BE351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DA1-AA7C-4D4A-85E0-299C9746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CC5-7CD3-467E-8AF5-666D58F0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196-1F25-4343-A600-997A922C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D120-B28A-484C-8475-10FC4D896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D0D6-1F54-499D-B2AA-7F71EAF29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ubul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ECO-SCOLARII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Liceul de Stiințe ale Natur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Activități prop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ațarea Parcului Cen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lantarea de puieți în gradina școl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ațarea albiei râului ce trece prin locali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cțiuni de colectare a hârti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Invățăm să reciclăm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338200" y="1869840"/>
            <a:ext cx="4191120" cy="4190400"/>
            <a:chOff x="2338200" y="1869840"/>
            <a:chExt cx="4191120" cy="4190400"/>
          </a:xfrm>
        </p:grpSpPr>
        <p:sp>
          <p:nvSpPr>
            <p:cNvPr id="104" name="_s7179"/>
            <p:cNvSpPr/>
            <p:nvPr/>
          </p:nvSpPr>
          <p:spPr>
            <a:xfrm>
              <a:off x="3008160" y="1869840"/>
              <a:ext cx="2851200" cy="28508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850840"/>
                <a:gd name="textAreaBottom" fmla="*/ 2850840 h 28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008000"/>
                </a:gs>
              </a:gsLst>
              <a:lin ang="81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7180"/>
            <p:cNvSpPr/>
            <p:nvPr/>
          </p:nvSpPr>
          <p:spPr>
            <a:xfrm rot="5400000">
              <a:off x="3678120" y="2539440"/>
              <a:ext cx="2850840" cy="2851200"/>
            </a:xfrm>
            <a:custGeom>
              <a:avLst/>
              <a:gdLst>
                <a:gd name="textAreaLeft" fmla="*/ 0 w 2850840"/>
                <a:gd name="textAreaRight" fmla="*/ 2850840 w 2850840"/>
                <a:gd name="textAreaTop" fmla="*/ 0 h 2851200"/>
                <a:gd name="textAreaBottom" fmla="*/ 2851560 h 285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008000"/>
                </a:gs>
              </a:gsLst>
              <a:lin ang="2700000"/>
            </a:gra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7184"/>
            <p:cNvSpPr/>
            <p:nvPr/>
          </p:nvSpPr>
          <p:spPr>
            <a:xfrm rot="10800000">
              <a:off x="3008160" y="3209400"/>
              <a:ext cx="2851200" cy="28508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850840"/>
                <a:gd name="textAreaBottom" fmla="*/ 2850840 h 28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8000"/>
                </a:gs>
              </a:gsLst>
              <a:lin ang="189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7182"/>
            <p:cNvSpPr/>
            <p:nvPr/>
          </p:nvSpPr>
          <p:spPr>
            <a:xfrm rot="16200000">
              <a:off x="2338200" y="2539080"/>
              <a:ext cx="2850840" cy="2851200"/>
            </a:xfrm>
            <a:custGeom>
              <a:avLst/>
              <a:gdLst>
                <a:gd name="textAreaLeft" fmla="*/ 0 w 2850840"/>
                <a:gd name="textAreaRight" fmla="*/ 2850840 w 2850840"/>
                <a:gd name="textAreaTop" fmla="*/ 0 h 2851200"/>
                <a:gd name="textAreaBottom" fmla="*/ 2851560 h 285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7177"/>
            <p:cNvSpPr/>
            <p:nvPr/>
          </p:nvSpPr>
          <p:spPr>
            <a:xfrm>
              <a:off x="5192640" y="2131920"/>
              <a:ext cx="1074600" cy="10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mercia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7178"/>
            <p:cNvSpPr/>
            <p:nvPr/>
          </p:nvSpPr>
          <p:spPr>
            <a:xfrm>
              <a:off x="5194080" y="4722480"/>
              <a:ext cx="107496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suma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7181"/>
            <p:cNvSpPr/>
            <p:nvPr/>
          </p:nvSpPr>
          <p:spPr>
            <a:xfrm>
              <a:off x="2600280" y="2134800"/>
              <a:ext cx="107460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Produca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7183"/>
            <p:cNvSpPr/>
            <p:nvPr/>
          </p:nvSpPr>
          <p:spPr>
            <a:xfrm>
              <a:off x="2603520" y="4725720"/>
              <a:ext cx="1074600" cy="10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Centru de reciclar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a deșeuril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Protejați NATURA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Apa și rolul ei în viața noastr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3280" y="2637000"/>
            <a:ext cx="4248360" cy="3116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1:07:08Z</dcterms:created>
  <dc:creator>AS</dc:creator>
  <dc:description/>
  <dc:language>en-US</dc:language>
  <cp:lastModifiedBy>AS</cp:lastModifiedBy>
  <dcterms:modified xsi:type="dcterms:W3CDTF">2010-01-06T21:37:20Z</dcterms:modified>
  <cp:revision>4</cp:revision>
  <dc:subject/>
  <dc:title>Clubul  ECO-SCOLARII</dc:title>
</cp:coreProperties>
</file>